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0.gif" ContentType="image/gif"/>
  <Override PartName="/ppt/media/image14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5927-6EA0-474E-8979-16E10C20C8B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te Gre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ffolk City Sch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nd Grade – SOL 2.2, 2.4, 2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deos &amp; Lin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ed Streaming Vide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-American Folktales   [22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People of the Plains   [26:26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s: The First Peoples   [21:00]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 to the website &amp; find out abou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ve American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eopardy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p-Up G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z - Ga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ou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b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hatan Indi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ster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gions: Places that have common (the same) characteri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owhata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cahontas &amp; Chief Powhat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ed EAST of the Appalachian Mount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&amp; Bark H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Natural Materials to build homes, make clothes, &amp; tools (trees, rocks, bones animal skins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mate: The kind of weather an area has over a long period of     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d: The shape of the land’s 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vironment: Natural Surrou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sher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vers &amp; Lak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n &amp; Boy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er, Small Mammals, &amp; Bird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men &amp; Gir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ew  - Corn, Beans, &amp; Squas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cupation – Daily Job of an Ad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l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ddled Cano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– How people move from o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ts (jewelry, pottery, weav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gends and s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ect for na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rm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ibution – Things people from the p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95BD-4871-4F20-A134-5FC2E368F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2B00-8255-4E90-B70D-6FD474C23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46C9-C254-48ED-93A7-93E6B269C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98B9-863B-47EB-A09C-60D11446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C114-778F-4FCB-91F9-260F7DE11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676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EA6-30F0-44BB-AC17-F94919BA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464B0-3AF4-4803-AC0F-893887332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5F9A-E447-44E8-8AED-3CB62774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75960"/>
            <a:ext cx="678168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B486E-2F2F-4394-B6CF-310BD9D0D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8282F-D62D-40F6-ACFB-927C86D4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67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FACC-F08B-4686-8FD0-3937A72E0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676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F6D4-40A6-452B-897A-5582991F2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nativeamericanhm_pg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C245-91C4-4792-B45E-49C923E6C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nativeamericanhm_p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Native Americans:</a:t>
            </a:r>
            <a:br>
              <a:rPr sz="6400"/>
            </a:b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219320" y="3805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Kate Green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ITRT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Suffolk City School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Gill Sans MT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Grade – SOL 2.2, 2.4, 2.5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Videos &amp; Links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United Streaming Video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-American Folktales   [22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People of the Plains   [26:26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Native Americans: The First Peoples   [21:00] 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312120" indent="-31212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67608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Gill Sans MT"/>
              </a:rPr>
              <a:t>Go to the website &amp; find out about:</a:t>
            </a:r>
            <a:endParaRPr b="0" lang="en-US" sz="35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Reg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ccupations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1040040" indent="-207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Native American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Jeopardy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op-Up Game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Quiz - Games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Eastern Woodland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Sioux 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Pueblo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Powhatan Indi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2845440" y="5667120"/>
            <a:ext cx="302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731880"/>
                <a:tab algn="l" pos="1360440"/>
                <a:tab algn="l" pos="2103480"/>
                <a:tab algn="l" pos="2846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52280" y="1600200"/>
          <a:ext cx="8839440" cy="2127240"/>
        </p:xfrm>
        <a:graphic>
          <a:graphicData uri="http://schemas.openxmlformats.org/drawingml/2006/table">
            <a:tbl>
              <a:tblPr/>
              <a:tblGrid>
                <a:gridCol w="1600200"/>
                <a:gridCol w="1524240"/>
                <a:gridCol w="1600200"/>
                <a:gridCol w="1828800"/>
                <a:gridCol w="2286000"/>
              </a:tblGrid>
              <a:tr h="573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eg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India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me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Occupations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7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Transportatio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4120"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Eastern Woodlan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owhat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ood and bark ho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ishermen Hunters Farm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34560" bIns="345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Walk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addled cano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	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93" name="Picture 48" descr="longhouse2"/>
          <p:cNvPicPr/>
          <p:nvPr/>
        </p:nvPicPr>
        <p:blipFill>
          <a:blip r:embed="rId1"/>
          <a:stretch/>
        </p:blipFill>
        <p:spPr>
          <a:xfrm>
            <a:off x="1447920" y="3886200"/>
            <a:ext cx="6324480" cy="264168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Reg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96" name="Picture 4" descr="map"/>
          <p:cNvPicPr/>
          <p:nvPr/>
        </p:nvPicPr>
        <p:blipFill>
          <a:blip r:embed="rId1"/>
          <a:srcRect l="0" t="0" r="0" b="16290"/>
          <a:stretch/>
        </p:blipFill>
        <p:spPr>
          <a:xfrm>
            <a:off x="304920" y="2362320"/>
            <a:ext cx="6476760" cy="3962160"/>
          </a:xfrm>
          <a:prstGeom prst="rect">
            <a:avLst/>
          </a:prstGeom>
          <a:ln w="0">
            <a:noFill/>
          </a:ln>
        </p:spPr>
      </p:pic>
      <p:sp>
        <p:nvSpPr>
          <p:cNvPr id="97" name="Line 5"/>
          <p:cNvSpPr/>
          <p:nvPr/>
        </p:nvSpPr>
        <p:spPr>
          <a:xfrm flipH="1">
            <a:off x="5791320" y="3352680"/>
            <a:ext cx="2209680" cy="91440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WordArt 6"/>
          <p:cNvSpPr txBox="1"/>
          <p:nvPr/>
        </p:nvSpPr>
        <p:spPr>
          <a:xfrm>
            <a:off x="6858000" y="4038480"/>
            <a:ext cx="2286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Eastern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Woodland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Reg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380880" y="1295280"/>
            <a:ext cx="83822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Region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: Places that have common (the same) characteristic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he Powhata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895480" y="1294920"/>
            <a:ext cx="5943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Pocahontas &amp; Chief Powhatan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Lived </a:t>
            </a:r>
            <a:r>
              <a:rPr b="0" lang="en-US" sz="4000" spc="-1" strike="noStrike">
                <a:solidFill>
                  <a:srgbClr val="0000ff"/>
                </a:solidFill>
                <a:latin typeface="Gill Sans MT"/>
              </a:rPr>
              <a:t>EAST</a:t>
            </a:r>
            <a:r>
              <a:rPr b="0" lang="en-US" sz="4000" spc="-1" strike="noStrike">
                <a:solidFill>
                  <a:srgbClr val="000000"/>
                </a:solidFill>
                <a:latin typeface="Gill Sans MT"/>
              </a:rPr>
              <a:t> of the Appalachian Mountains</a:t>
            </a:r>
            <a:endParaRPr b="0" lang="en-US" sz="4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3" name="Picture 4" descr="pocahontas"/>
          <p:cNvPicPr/>
          <p:nvPr/>
        </p:nvPicPr>
        <p:blipFill>
          <a:blip r:embed="rId1"/>
          <a:srcRect l="0" t="0" r="0" b="10283"/>
          <a:stretch/>
        </p:blipFill>
        <p:spPr>
          <a:xfrm>
            <a:off x="6858000" y="4038480"/>
            <a:ext cx="2052720" cy="25146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"/>
          <p:cNvPicPr/>
          <p:nvPr/>
        </p:nvPicPr>
        <p:blipFill>
          <a:blip r:embed="rId2"/>
          <a:stretch/>
        </p:blipFill>
        <p:spPr>
          <a:xfrm>
            <a:off x="304920" y="2209680"/>
            <a:ext cx="2541600" cy="434340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3038760" cy="28670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Home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5257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Wood &amp; Bark Hom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Used Natural Materials to build homes, make clothes, &amp; tools (trees, rocks, bones animal skins, etc.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109" name="Picture 4" descr="algonquian-family"/>
          <p:cNvPicPr/>
          <p:nvPr/>
        </p:nvPicPr>
        <p:blipFill>
          <a:blip r:embed="rId2"/>
          <a:stretch/>
        </p:blipFill>
        <p:spPr>
          <a:xfrm>
            <a:off x="228600" y="4191120"/>
            <a:ext cx="3657600" cy="240480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001_002_1_19"/>
          <p:cNvPicPr/>
          <p:nvPr/>
        </p:nvPicPr>
        <p:blipFill>
          <a:blip r:embed="rId3"/>
          <a:stretch/>
        </p:blipFill>
        <p:spPr>
          <a:xfrm>
            <a:off x="4191120" y="3733920"/>
            <a:ext cx="2895480" cy="2733480"/>
          </a:xfrm>
          <a:prstGeom prst="rect">
            <a:avLst/>
          </a:prstGeom>
          <a:ln w="0">
            <a:noFill/>
          </a:ln>
        </p:spPr>
      </p:pic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Living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8224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Climate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kind of weather an area has over a long period of      tim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The shape of the land’s surface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Gill Sans MT"/>
              </a:rPr>
              <a:t>Environment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: Natural Surrounding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04920" y="3962520"/>
          <a:ext cx="8610480" cy="1871640"/>
        </p:xfrm>
        <a:graphic>
          <a:graphicData uri="http://schemas.openxmlformats.org/drawingml/2006/table">
            <a:tbl>
              <a:tblPr/>
              <a:tblGrid>
                <a:gridCol w="2869920"/>
                <a:gridCol w="2870280"/>
                <a:gridCol w="2870280"/>
              </a:tblGrid>
              <a:tr h="606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limat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Mild winter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Hot, humid summers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Rivers, Hills, Mountains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Coastlan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Forests, Variety of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plant lif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15" name="Picture 34" descr="Picture1"/>
          <p:cNvPicPr/>
          <p:nvPr/>
        </p:nvPicPr>
        <p:blipFill>
          <a:blip r:embed="rId1"/>
          <a:stretch/>
        </p:blipFill>
        <p:spPr>
          <a:xfrm>
            <a:off x="6705720" y="2133720"/>
            <a:ext cx="1904760" cy="142848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Occup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04760"/>
            <a:ext cx="3962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isherman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Rivers &amp; Lake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Hunt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Men &amp; Boy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Deer, Small Mammals, &amp; Birds 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Farmer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Women &amp; Girls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Grew  - Corn, Beans, &amp; Squash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457200" y="1295280"/>
            <a:ext cx="6721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Occup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Daily Job of an Ad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6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2743200" cy="227808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"/>
          <p:cNvPicPr/>
          <p:nvPr/>
        </p:nvPicPr>
        <p:blipFill>
          <a:blip r:embed="rId2"/>
          <a:stretch/>
        </p:blipFill>
        <p:spPr>
          <a:xfrm>
            <a:off x="6477120" y="3200400"/>
            <a:ext cx="2382840" cy="2895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8" descr=""/>
          <p:cNvPicPr/>
          <p:nvPr/>
        </p:nvPicPr>
        <p:blipFill>
          <a:blip r:embed="rId3"/>
          <a:stretch/>
        </p:blipFill>
        <p:spPr>
          <a:xfrm>
            <a:off x="4114800" y="4705200"/>
            <a:ext cx="2514600" cy="1791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Transportation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Paddled Canoes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556560" y="1203480"/>
            <a:ext cx="80524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000000"/>
                </a:solidFill>
                <a:uFillTx/>
                <a:latin typeface="Arial"/>
              </a:rPr>
              <a:t>Transportation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– How people move from on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ace to anoth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4648320" cy="21337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"/>
          <p:cNvPicPr/>
          <p:nvPr/>
        </p:nvPicPr>
        <p:blipFill>
          <a:blip r:embed="rId2"/>
          <a:stretch/>
        </p:blipFill>
        <p:spPr>
          <a:xfrm>
            <a:off x="5486400" y="1828800"/>
            <a:ext cx="2781360" cy="238140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67816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400" spc="-1" strike="noStrike">
                <a:solidFill>
                  <a:srgbClr val="000000"/>
                </a:solidFill>
                <a:latin typeface="Gill Sans MT"/>
              </a:rPr>
              <a:t>Contributions</a:t>
            </a:r>
            <a:endParaRPr b="0" lang="en-US" sz="6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80880" y="2819520"/>
            <a:ext cx="82296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Arts (jewelry, pottery, weaving)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Legends and storie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Respect for natur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ill Sans MT"/>
              </a:rPr>
              <a:t>Farming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2" name="Text Box 4"/>
          <p:cNvSpPr/>
          <p:nvPr/>
        </p:nvSpPr>
        <p:spPr>
          <a:xfrm>
            <a:off x="152280" y="1203480"/>
            <a:ext cx="89917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Contribution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– Things people from the past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have done to make life today easier, today.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7" descr="algonquian-family"/>
          <p:cNvPicPr/>
          <p:nvPr/>
        </p:nvPicPr>
        <p:blipFill>
          <a:blip r:embed="rId1"/>
          <a:stretch/>
        </p:blipFill>
        <p:spPr>
          <a:xfrm>
            <a:off x="4876920" y="3809880"/>
            <a:ext cx="3813120" cy="250668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6T18:03:14Z</dcterms:created>
  <dc:creator>5853</dc:creator>
  <dc:description/>
  <dc:language>en-US</dc:language>
  <cp:lastModifiedBy>Legion</cp:lastModifiedBy>
  <dcterms:modified xsi:type="dcterms:W3CDTF">2017-07-05T12:35:28Z</dcterms:modified>
  <cp:revision>11</cp:revision>
  <dc:subject/>
  <dc:title>Native Americans: Powhatan India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2383731033</vt:lpwstr>
  </property>
</Properties>
</file>